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1987-3360-493A-9028-8617F700FCA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3F9E-B7FA-4420-B847-E82BAAD991C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9BA7-1209-495E-ACF7-3B1612556FA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7F46-F9B0-44FC-89D3-EF40870969C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804-AB67-4931-B936-0DC765F5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E90-AE5E-4519-839B-DB5EF0A0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26B-1066-425F-86F7-8BC60B0B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30B-9BC9-4CD7-842D-F83F92EB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33D-74A8-45FB-BEAC-E0547085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DBC-EAB2-4672-B913-48DFC834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1C9-ABBC-4BA2-BB66-93E4D48E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A98-939F-4BF8-86EE-292E1D7E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63C-43C5-4150-BABA-D32D616C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6A6-D63F-4B4A-9DC2-B20FA7E9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736-3938-4C6C-8316-FB45CC2F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A86-6856-4301-8E85-161750C4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0E24-B707-4340-87A0-670FADFEF69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971800" y="9907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M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95280" y="234144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8120" y="204156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143760" y="2028960"/>
            <a:ext cx="1066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572000" y="2021040"/>
            <a:ext cx="1219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41148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S IR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00400" y="156384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S 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3"/>
          <p:cNvGrpSpPr/>
          <p:nvPr/>
        </p:nvGrpSpPr>
        <p:grpSpPr>
          <a:xfrm>
            <a:off x="1404360" y="4572000"/>
            <a:ext cx="6822720" cy="307080"/>
            <a:chOff x="1404360" y="4572000"/>
            <a:chExt cx="6822720" cy="307080"/>
          </a:xfrm>
        </p:grpSpPr>
        <p:sp>
          <p:nvSpPr>
            <p:cNvPr id="56" name="Rectangle 16"/>
            <p:cNvSpPr/>
            <p:nvPr/>
          </p:nvSpPr>
          <p:spPr>
            <a:xfrm>
              <a:off x="1404360" y="457200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PO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2407680" y="45720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>
              <a:off x="3157200" y="457200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3742560" y="457200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DEC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0"/>
            <p:cNvSpPr/>
            <p:nvPr/>
          </p:nvSpPr>
          <p:spPr>
            <a:xfrm>
              <a:off x="4646160" y="457200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SAL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1"/>
            <p:cNvSpPr/>
            <p:nvPr/>
          </p:nvSpPr>
          <p:spPr>
            <a:xfrm>
              <a:off x="5579280" y="457200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VEN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2"/>
            <p:cNvSpPr/>
            <p:nvPr/>
          </p:nvSpPr>
          <p:spPr>
            <a:xfrm>
              <a:off x="6453720" y="457200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TE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3"/>
            <p:cNvSpPr/>
            <p:nvPr/>
          </p:nvSpPr>
          <p:spPr>
            <a:xfrm>
              <a:off x="7424640" y="4572000"/>
              <a:ext cx="80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HA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24"/>
          <p:cNvSpPr/>
          <p:nvPr/>
        </p:nvSpPr>
        <p:spPr>
          <a:xfrm>
            <a:off x="1557360" y="4876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2491560" y="48769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3156840" y="48769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3948120" y="48769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4793400" y="487692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5716440" y="48769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6662520" y="48769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7600680" y="48769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2"/>
          <p:cNvSpPr/>
          <p:nvPr/>
        </p:nvSpPr>
        <p:spPr>
          <a:xfrm>
            <a:off x="855000" y="48769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1523880"/>
            <a:ext cx="76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pronombres OD, OI y reflexivos (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) se pon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rás del verbo en Imperativo, formando una sola palab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361600" y="990720"/>
            <a:ext cx="49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IMPERATIVO Y LOS PRO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68480" y="559440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uedo llevarme estas fotos?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í, pero luego devuélve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ela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64520" y="21495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iradl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, allí est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930400" y="214956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asa, pasa y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iénta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5194080" y="214956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Dam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se periód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44960" y="2754360"/>
            <a:ext cx="60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 unir un pronombre al Imperativo se producen algunas mod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851760" y="3124080"/>
            <a:ext cx="512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parece una tilde cuando la palabra se convierte en esdrúj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1068480" y="35053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118240" y="3505320"/>
            <a:ext cx="17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íra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n el espe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856080" y="4006800"/>
            <a:ext cx="387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pierde la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final delante del pronombr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1068120" y="44038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i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2071080" y="440388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irao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n el espe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438480" y="4959360"/>
            <a:ext cx="82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 hay dos pronombres, el orden es OI + OD. Cuando los dos pronombres son de tercera person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e convierten e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882600" y="5594400"/>
            <a:ext cx="251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Quieres estos docum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No, dá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elo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 Ju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16444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17524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4" name="camera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831960" y="1676520"/>
            <a:ext cx="26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frecer cosas o para invit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63440" y="2017800"/>
            <a:ext cx="24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un poco más de caf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834840" y="2695680"/>
            <a:ext cx="179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i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057320" y="3060720"/>
            <a:ext cx="46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ara llamar por teléfono al extranjer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primero el 00 y lueg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l prefijo d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830880" y="3778200"/>
            <a:ext cx="412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órdenes y pedir que los demás hagan al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062000" y="413856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l Director, por fav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837360" y="5073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permi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061640" y="5425920"/>
            <a:ext cx="35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uedo llamar por teléfono desde aquí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í, claro.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200760" y="998640"/>
            <a:ext cx="31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SOS DEL IM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063440" y="2265480"/>
            <a:ext cx="24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n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un poco más de sop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1062000" y="4398840"/>
            <a:ext cx="28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or favor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dígal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que he llam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1061280" y="4648320"/>
            <a:ext cx="32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arlos, guapo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ayúdam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 llevar 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9" name="camera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6:13:29Z</dcterms:created>
  <dc:creator>USER</dc:creator>
  <dc:description/>
  <dc:language>en-US</dc:language>
  <cp:lastModifiedBy>Susana</cp:lastModifiedBy>
  <cp:lastPrinted>2007-06-19T14:16:16Z</cp:lastPrinted>
  <dcterms:modified xsi:type="dcterms:W3CDTF">2015-07-01T12:31:37Z</dcterms:modified>
  <cp:revision>77</cp:revision>
  <dc:subject/>
  <dc:title>Παρουσίαση του PowerPoint</dc:title>
</cp:coreProperties>
</file>